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AC5-911C-4BEA-BD5C-ABD8E75A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4A5-E7AA-4B18-8D4C-98037E3C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90E-23B0-4B59-A8F1-32635122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EEC-605C-48F1-98FE-6DA8F76C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925-1128-4321-8868-547E2A7F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41E-C04D-4F7D-8C6E-66E1DDB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84D-D737-46FB-91CB-E536384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379-EF59-4667-8695-5E3D1C9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E67-87D1-4AB0-A1CC-05653A9B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8E2-C19A-4DCF-904F-C27478C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DE9-647D-4F93-97DB-04D6F05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37C-D7EC-4DA4-A5B8-7FE1C88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15C-F123-46BA-8B54-479E5A16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líčová aktivita 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zdělávací aktivity zaměřené na efektivnější řízení pobytových sociálních služeb pro osoby se zdravotním postižením ve Středočeském kraj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edDr. Naděžda Fibich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sedkyně OSZ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čanské sdružení Za důstojné stář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ovážné nám. 16, 110 00 Prah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: 222248006, e-mail: pc3@oszds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zátor / Dodavate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čanské sdružení Za důstojné stář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kolení se realizovalo ve 4 souběžných kurzech po 10ti seminářích, které proběhly v období od srpna 2012 do konce května 2013 a úspěšně je absolvovalo 97 účastní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vik se realizoval i v 10ti vybraných pobytových sociálních zařízeních jako cvičné inspekce ve formě cvičného audi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odologie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truktura, obsah a metody školení - vycházeli ze souboru definovaných řídících kompetencí vedoucích pracovníků v sociálních službách, které měly být během školení rozvíje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mpetence byly defin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jako personální (behaviorální, prahové), jež zahrnují osobnostní kvality vedoucího pracovníka a dále jako kompetence výkonové, které zahrnují výkonnostní kv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ýchodiskem obsahu šk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bor 10ti akreditovaných vzdělávacích programů, které kultivovaly kompetence. Učební  metody rozlišovali dle psychických komponent osobnosti, které jsou učebním procesem ovlivňovány. Byly voleny metody jednak deduktivně induktivní a jednak induktivně deduktivní, prožitkové, zkušenost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 byla ve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ferencí rozvoje osobnosti vedoucího pracovníka, tj. rozvoje personálních kompetencí jako podstatný předpoklad dobrého řízení sociálních služ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ástí metod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také hodnocení učebního efektu v jednotlivých vzdělávacích programech. To probíhalo ve formě bodování evaluačních dotazníků vyplněných na závěr každého tématu – semináře přítomnými účastníky. Tento segment metodologie byl ovšem spíše pokusně zpracován: jeho metodiku budou muset vyvíjet výzkumní a andragogičtí odborní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ástí metod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také hodnocení učebního efektu v jednotlivých vzdělávacích programech. To probíhalo ve formě bodování evaluačních dotazníků vyplněných na závěr každého tématu – semináře přítomnými účastníky. Tento segment metodologie byl ovšem spíše pokusně zpracován: jeho metodiku budou muset vyvíjet výzkumní a andragogičtí odborní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vičné au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praktický a účinný typ výcviku vedoucího pracovníka na jeho pracovišti. Obsahem bylo metodické vedení, facilitace a odborná podpora při analýze předložených vnitřních norem a jejich nejasností a pochybení z hlediska Standardů kvality sociálních služeb a zákonných nor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namná podpora zřizovatele, zařízení, služby, pracovníků i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zultáty z realizace aktivit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zbytnost kultivovat personální kompetence vedoucích pracovníků sociálních zařízení jako vůdčích osobností v sociálním chování a v projevech soc. cítění (1/3 zvládla své chování v simulovaných situacích úspěšně, 1/3 průměrně, 1/3 nerelevantně, vyhýbavě, uzavřeně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dborné konzultace v sociálním terénu jsou zásadně účinnější než kontroly nebo teoretické přednášky (pouze soustavy poznatk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ultáty z realizace aktiv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áce s písemnými dokumenty nemusí souznít s faktickým soc. ovzduším a úrovní péče a podpory klientů, rozpor není zřetelně sledován a strategicky řeš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ategie řízení soc. zařízení má rozlišovat priority a tempo změn v případě každého zařízení, tj. potřebné změny reálné situace jednotlivých zařízení diferencovat časem a tempem přiměřeným pro nositele změn. Tyto kroky uvolní citelné vztahové napětí, existující na vertikále řízení poskytování soc.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fryc</cp:lastModifiedBy>
  <dcterms:modified xsi:type="dcterms:W3CDTF">2013-06-24T13:48:57Z</dcterms:modified>
  <cp:revision>40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66991197</vt:r8>
  </property>
  <property fmtid="{D5CDD505-2E9C-101B-9397-08002B2CF9AE}" pid="3" name="_AuthorEmail">
    <vt:lpwstr>fryc@kr-s.cz</vt:lpwstr>
  </property>
  <property fmtid="{D5CDD505-2E9C-101B-9397-08002B2CF9AE}" pid="4" name="_AuthorEmailDisplayName">
    <vt:lpwstr>Fryč Vladislav</vt:lpwstr>
  </property>
  <property fmtid="{D5CDD505-2E9C-101B-9397-08002B2CF9AE}" pid="5" name="_EmailSubject">
    <vt:lpwstr>prezentace</vt:lpwstr>
  </property>
  <property fmtid="{D5CDD505-2E9C-101B-9397-08002B2CF9AE}" pid="6" name="_PreviousAdHocReviewCycleID">
    <vt:r8>-699138759</vt:r8>
  </property>
</Properties>
</file>